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png" ContentType="image/png"/>
  <Override PartName="/ppt/media/image24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F94A-ABE1-4D20-A95D-6F7BCBADC92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76C4-FE99-4DD1-B4EF-E230402BD7E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a semi-fluid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ell walls are made from cellulose. The secondary cell wall, which forms inside the primary wall, is formed from lignin. Its purpose is to give strength to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53B0-1947-4C69-836E-3B27D20A01F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al bodies have the same microtubule arrangement as centrioles and are believed to be derived from them. The basal body initiates polymerization of the nine outer doublets of a cilium or flagell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CB4-DC25-449D-953F-47471EF0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1A5-BF25-44B1-A01C-790E26AF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421-C34D-48FC-9A8E-58AD4972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A17-348E-40AA-AA21-3AD0380B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3FC-20E2-46AE-91FE-17E4ADEA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6FC-F243-4B0B-A1C9-123A0BC9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502-5DFD-43FC-A262-96ACDE13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9CE-EAD8-452F-8EBE-7848086C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1AC-9B71-4DED-8FE1-099E86A8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A09-04A1-48DF-B1CC-C8AC9368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D5D-0E09-44B3-8FAE-2AFE00E0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A4C-7344-425A-83FF-E7A075E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BD1B-EC1F-4280-8203-2C261916E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ell1"/>
          <p:cNvPicPr/>
          <p:nvPr/>
        </p:nvPicPr>
        <p:blipFill>
          <a:blip r:embed="rId1"/>
          <a:stretch/>
        </p:blipFill>
        <p:spPr>
          <a:xfrm>
            <a:off x="228600" y="84240"/>
            <a:ext cx="8610480" cy="6599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Structur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have structures surrounded by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inter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celled organisms,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rokaryote"/>
          <p:cNvPicPr/>
          <p:nvPr/>
        </p:nvPicPr>
        <p:blipFill>
          <a:blip r:embed="rId1"/>
          <a:stretch/>
        </p:blipFill>
        <p:spPr>
          <a:xfrm>
            <a:off x="4038480" y="1676520"/>
            <a:ext cx="4648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Prokaryotic 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 the bacteria and archa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cells have these constant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er Bound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Cel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ytopla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        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lakoids (Cyano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cle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            Chromosome (DNA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Arial"/>
              </a:rPr>
              <a:t>Eukaryotic cel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i="1" lang="en-US" sz="3600" spc="-1" strike="noStrike">
                <a:solidFill>
                  <a:srgbClr val="3333ff"/>
                </a:solidFill>
                <a:latin typeface="Arial"/>
              </a:rPr>
              <a:t>nucle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controls the workings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0" i="1" lang="en-US" sz="3600" spc="-1" strike="noStrike">
                <a:solidFill>
                  <a:srgbClr val="3333ff"/>
                </a:solidFill>
                <a:latin typeface="Arial"/>
              </a:rPr>
              <a:t>plasma membra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de of phospholipids and prote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ounded by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eukaryote_animal"/>
          <p:cNvPicPr/>
          <p:nvPr/>
        </p:nvPicPr>
        <p:blipFill>
          <a:blip r:embed="rId1"/>
          <a:stretch/>
        </p:blipFill>
        <p:spPr>
          <a:xfrm>
            <a:off x="4419720" y="2743200"/>
            <a:ext cx="4375080" cy="364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eukaryote_plant"/>
          <p:cNvPicPr/>
          <p:nvPr/>
        </p:nvPicPr>
        <p:blipFill>
          <a:blip r:embed="rId2"/>
          <a:stretch/>
        </p:blipFill>
        <p:spPr>
          <a:xfrm>
            <a:off x="380880" y="2895480"/>
            <a:ext cx="4191120" cy="3168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5"/>
          <p:cNvSpPr/>
          <p:nvPr/>
        </p:nvSpPr>
        <p:spPr>
          <a:xfrm>
            <a:off x="114300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510552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04920" y="61722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sma membrane regulates what enters and exits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 the plasma membrane, the nucleus is surrounded by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cytopla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plasm is a semi-fluid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cells have a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cell w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ddition to the plasma membr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cell walls are made from cellulose. The secondary cell wall, which forms inside the primary wall, is formed from lignin. Its purpose is to give strength to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st one main difference between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plant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nimal cells have organ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is the function of organ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cell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03_02a"/>
          <p:cNvPicPr/>
          <p:nvPr/>
        </p:nvPicPr>
        <p:blipFill>
          <a:blip r:embed="rId1"/>
          <a:stretch/>
        </p:blipFill>
        <p:spPr>
          <a:xfrm>
            <a:off x="1160640" y="117792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cell1"/>
          <p:cNvPicPr/>
          <p:nvPr/>
        </p:nvPicPr>
        <p:blipFill>
          <a:blip r:embed="rId1"/>
          <a:stretch/>
        </p:blipFill>
        <p:spPr>
          <a:xfrm>
            <a:off x="380880" y="995400"/>
            <a:ext cx="807732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03_03a"/>
          <p:cNvPicPr/>
          <p:nvPr/>
        </p:nvPicPr>
        <p:blipFill>
          <a:blip r:embed="rId1"/>
          <a:stretch/>
        </p:blipFill>
        <p:spPr>
          <a:xfrm>
            <a:off x="1309680" y="1263600"/>
            <a:ext cx="65991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1plant3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Cell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made up of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smallest working units of all living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come from preexisting cells through cell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re the main similarities and differences between plant and animal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ell Par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rganel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and plant cells have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organel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elles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compartmental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within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ganelles of animal and plant cells are similar to each other except that centrioles are present only in animal cells, and chloroplasts are present only in plan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rounding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419720" y="1752120"/>
            <a:ext cx="4419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membrane of cell that controls movement in and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la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cellmemb"/>
          <p:cNvPicPr/>
          <p:nvPr/>
        </p:nvPicPr>
        <p:blipFill>
          <a:blip r:embed="rId1"/>
          <a:stretch/>
        </p:blipFill>
        <p:spPr>
          <a:xfrm>
            <a:off x="533520" y="1920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found in plant cells &amp;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&amp; protects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cellwall"/>
          <p:cNvPicPr/>
          <p:nvPr/>
        </p:nvPicPr>
        <p:blipFill>
          <a:blip r:embed="rId1"/>
          <a:stretch/>
        </p:blipFill>
        <p:spPr>
          <a:xfrm>
            <a:off x="457200" y="184464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ich structure surrounds a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efly outline 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ide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s cel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d from cytoplasm by nucle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genetic material -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s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two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s allow material to enter and leave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nmemb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3_tap48"/>
          <p:cNvPicPr/>
          <p:nvPr/>
        </p:nvPicPr>
        <p:blipFill>
          <a:blip r:embed="rId1"/>
          <a:srcRect l="0" t="7860" r="0" b="0"/>
          <a:stretch/>
        </p:blipFill>
        <p:spPr>
          <a:xfrm>
            <a:off x="1371600" y="1498680"/>
            <a:ext cx="6464160" cy="5359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 they can exchange materials with their surrou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instructions for traits &amp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hromosomes"/>
          <p:cNvPicPr/>
          <p:nvPr/>
        </p:nvPicPr>
        <p:blipFill>
          <a:blip r:embed="rId1"/>
          <a:stretch/>
        </p:blipFill>
        <p:spPr>
          <a:xfrm>
            <a:off x="609480" y="19954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RNA to build prote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nucleolus"/>
          <p:cNvPicPr/>
          <p:nvPr/>
        </p:nvPicPr>
        <p:blipFill>
          <a:blip r:embed="rId1"/>
          <a:stretch/>
        </p:blipFill>
        <p:spPr>
          <a:xfrm>
            <a:off x="4495680" y="16905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0" y="60958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-like mi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ed by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hereditary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er"/>
          <p:cNvPicPr/>
          <p:nvPr/>
        </p:nvPicPr>
        <p:blipFill>
          <a:blip r:embed="rId1"/>
          <a:stretch/>
        </p:blipFill>
        <p:spPr>
          <a:xfrm>
            <a:off x="533520" y="192096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0760" y="1295280"/>
            <a:ext cx="4647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materials around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type: lacks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type (pictured): ribosomes embedded in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55520" y="46080"/>
            <a:ext cx="12765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55520" y="46080"/>
            <a:ext cx="12765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 contains thous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on rough endoplasmic reticulum &amp; floating throughout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ribosomes"/>
          <p:cNvPicPr/>
          <p:nvPr/>
        </p:nvPicPr>
        <p:blipFill>
          <a:blip r:embed="rId1"/>
          <a:stretch/>
        </p:blipFill>
        <p:spPr>
          <a:xfrm>
            <a:off x="4648320" y="184464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energy through chemical reactions – breaking down fats &amp;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level of water and other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s and decomposes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itochondria"/>
          <p:cNvPicPr/>
          <p:nvPr/>
        </p:nvPicPr>
        <p:blipFill>
          <a:blip r:embed="rId1"/>
          <a:stretch/>
        </p:blipFill>
        <p:spPr>
          <a:xfrm>
            <a:off x="5486400" y="16765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lgi B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'packaging plant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golgi"/>
          <p:cNvPicPr/>
          <p:nvPr/>
        </p:nvPicPr>
        <p:blipFill>
          <a:blip r:embed="rId1"/>
          <a:stretch/>
        </p:blipFill>
        <p:spPr>
          <a:xfrm>
            <a:off x="4419720" y="138744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 and flag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8400" y="1295280"/>
            <a:ext cx="77724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Ci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flagel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9 + 2 pattern of micro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d in movement (cell, eggs, debr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ilium and flagellum has a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bas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b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it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03_12"/>
          <p:cNvPicPr/>
          <p:nvPr/>
        </p:nvPicPr>
        <p:blipFill>
          <a:blip r:embed="rId1"/>
          <a:srcRect l="0" t="7500" r="0" b="0"/>
          <a:stretch/>
        </p:blipFill>
        <p:spPr>
          <a:xfrm>
            <a:off x="1147680" y="665280"/>
            <a:ext cx="6689880" cy="53798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flagellum or cil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'plant' for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undigested material to cell membrane for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breaks down if lysosome expl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lysosome"/>
          <p:cNvPicPr/>
          <p:nvPr/>
        </p:nvPicPr>
        <p:blipFill>
          <a:blip r:embed="rId1"/>
          <a:stretch/>
        </p:blipFill>
        <p:spPr>
          <a:xfrm>
            <a:off x="5029200" y="19051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Definition of C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-bound sacs for storage, digestion, and waste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wat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plants maintain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vacuoles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ound in pl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green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photosynthesis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chloroplast"/>
          <p:cNvPicPr/>
          <p:nvPr/>
        </p:nvPicPr>
        <p:blipFill>
          <a:blip r:embed="rId1"/>
          <a:stretch/>
        </p:blipFill>
        <p:spPr>
          <a:xfrm>
            <a:off x="4572000" y="176832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st 5 structures within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golgi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es the mitochondria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cytopla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nucle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es the nuclear membrane allow to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nucleol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lysos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function of the endoplasmic reticul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y don’t animal cells contain chloropla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amoebaproteus"/>
          <p:cNvPicPr/>
          <p:nvPr/>
        </p:nvPicPr>
        <p:blipFill>
          <a:blip r:embed="rId1"/>
          <a:stretch/>
        </p:blipFill>
        <p:spPr>
          <a:xfrm>
            <a:off x="685800" y="762120"/>
            <a:ext cx="1436760" cy="229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poplarleaf"/>
          <p:cNvPicPr/>
          <p:nvPr/>
        </p:nvPicPr>
        <p:blipFill>
          <a:blip r:embed="rId2"/>
          <a:stretch/>
        </p:blipFill>
        <p:spPr>
          <a:xfrm>
            <a:off x="6781680" y="1219320"/>
            <a:ext cx="1919520" cy="189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redbloodcells"/>
          <p:cNvPicPr/>
          <p:nvPr/>
        </p:nvPicPr>
        <p:blipFill>
          <a:blip r:embed="rId3"/>
          <a:stretch/>
        </p:blipFill>
        <p:spPr>
          <a:xfrm>
            <a:off x="5867280" y="47242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2"/>
          <p:cNvSpPr/>
          <p:nvPr/>
        </p:nvSpPr>
        <p:spPr>
          <a:xfrm>
            <a:off x="2438280" y="1676520"/>
            <a:ext cx="2819520" cy="533160"/>
          </a:xfrm>
          <a:prstGeom prst="wedgeRoundRectCallout">
            <a:avLst>
              <a:gd name="adj1" fmla="val -78435"/>
              <a:gd name="adj2" fmla="val 35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4495680" y="2438280"/>
            <a:ext cx="1981440" cy="381240"/>
          </a:xfrm>
          <a:prstGeom prst="wedgeRoundRectCallout">
            <a:avLst>
              <a:gd name="adj1" fmla="val 97115"/>
              <a:gd name="adj2" fmla="val -5124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6400800" y="4114800"/>
            <a:ext cx="2362320" cy="457200"/>
          </a:xfrm>
          <a:prstGeom prst="wedgeRoundRectCallout">
            <a:avLst>
              <a:gd name="adj1" fmla="val -34208"/>
              <a:gd name="adj2" fmla="val 2093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nrn956-i1"/>
          <p:cNvPicPr/>
          <p:nvPr/>
        </p:nvPicPr>
        <p:blipFill>
          <a:blip r:embed="rId4"/>
          <a:stretch/>
        </p:blipFill>
        <p:spPr>
          <a:xfrm>
            <a:off x="304920" y="4114800"/>
            <a:ext cx="1596960" cy="2187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6"/>
          <p:cNvSpPr/>
          <p:nvPr/>
        </p:nvSpPr>
        <p:spPr>
          <a:xfrm>
            <a:off x="2286000" y="5029200"/>
            <a:ext cx="1981080" cy="457200"/>
          </a:xfrm>
          <a:prstGeom prst="wedgeRoundRectCallout">
            <a:avLst>
              <a:gd name="adj1" fmla="val -107291"/>
              <a:gd name="adj2" fmla="val 7777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bacteria"/>
          <p:cNvPicPr/>
          <p:nvPr/>
        </p:nvPicPr>
        <p:blipFill>
          <a:blip r:embed="rId5"/>
          <a:stretch/>
        </p:blipFill>
        <p:spPr>
          <a:xfrm>
            <a:off x="3657600" y="3048120"/>
            <a:ext cx="2019240" cy="16556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8"/>
          <p:cNvSpPr/>
          <p:nvPr/>
        </p:nvSpPr>
        <p:spPr>
          <a:xfrm>
            <a:off x="1143000" y="3276720"/>
            <a:ext cx="2057400" cy="533160"/>
          </a:xfrm>
          <a:prstGeom prst="wedgeRoundRectCallout">
            <a:avLst>
              <a:gd name="adj1" fmla="val 114736"/>
              <a:gd name="adj2" fmla="val 4196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wo Types of C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Prokaryot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22268"/>
                </a:solidFill>
                <a:latin typeface="Arial"/>
              </a:rPr>
              <a:t>Eukaryot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Living cells classified into 2 different types based on inter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3399"/>
                </a:solidFill>
                <a:latin typeface="Arial"/>
              </a:rPr>
              <a:t>Prokaryotic cells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– little defined internal structure.  Lack a clearly defined structure to house their DNA.  Organisms made up of prokaryotic cells are called Prokaryotes (all bacteria, all archa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222268"/>
                </a:solidFill>
                <a:latin typeface="Arial"/>
              </a:rPr>
              <a:t>Eukaryotic cells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– more complex structure.  Contain many different kinds of membrane-bound structures called organelles suspended in cytos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yp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4-VS01-ProVsEukaryote"/>
          <p:cNvPicPr/>
          <p:nvPr/>
        </p:nvPicPr>
        <p:blipFill>
          <a:blip r:embed="rId1"/>
          <a:srcRect l="0" t="0" r="0" b="4571"/>
          <a:stretch/>
        </p:blipFill>
        <p:spPr>
          <a:xfrm>
            <a:off x="380880" y="1828800"/>
            <a:ext cx="84679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66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re the main differences between Prokaryotic and Eukaryotic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st one key point from 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is the definition of a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oes a small cell have more surface area to volu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2:38:52Z</dcterms:created>
  <dc:creator>Mary Poarch</dc:creator>
  <dc:description/>
  <dc:language>en-US</dc:language>
  <cp:lastModifiedBy>Lyn Clarkson</cp:lastModifiedBy>
  <dcterms:modified xsi:type="dcterms:W3CDTF">2009-02-05T23:19:32Z</dcterms:modified>
  <cp:revision>93</cp:revision>
  <dc:subject/>
  <dc:title>Cell Structure &amp; Function</dc:title>
</cp:coreProperties>
</file>